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325B-BF47-442A-9A87-E88BD5242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1FB8-6C9D-4614-8554-FB0C96A9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FF33-D49D-40BA-BBAE-D559DFCCC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4BB5-3A4B-4168-9801-6C80333F7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42C64-FBDF-4B7C-B51E-D94107A22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A9D74-5C03-4075-BA6C-6B4923F5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3FE37-7333-4E3E-AE2D-1EF9D5C3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B624-3872-4A08-B4E1-9E25550B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A933-AE49-4590-B644-F031D10F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869D-F061-4D13-9246-6EB92CA6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D85C-383E-4074-9F37-0D109357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86AC-A676-4796-BEFA-B416EA69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F55A-72DB-4A7C-A3A6-C7498FDB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E91A-7F04-4C87-8D93-66C6B49B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D0F9-B4BD-4293-A2FC-1804A704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BA33-E628-4673-9016-124BC1B49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76B91-F609-4AA4-B8C2-5DAA95664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EFCA-660A-47B9-97E2-2122B7DB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E94A-1DE9-49E1-AD3D-08144C72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48E7-E167-42A2-AC16-C99761E3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3880-F780-47E7-B2C5-84FDC364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B88C-BA0A-447E-A4E1-B3E7AA7D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AF7F-E9C9-4AF4-8FF1-2A71A2A8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7411-E954-4F0F-AD6D-80DD9480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320" y="152280"/>
            <a:ext cx="8991360" cy="6629400"/>
            <a:chOff x="76320" y="152280"/>
            <a:chExt cx="8991360" cy="6629400"/>
          </a:xfrm>
        </p:grpSpPr>
        <p:sp>
          <p:nvSpPr>
            <p:cNvPr id="1" name=""/>
            <p:cNvSpPr/>
            <p:nvPr/>
          </p:nvSpPr>
          <p:spPr>
            <a:xfrm>
              <a:off x="76320" y="152280"/>
              <a:ext cx="8991360" cy="6629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228600"/>
              <a:ext cx="8839440" cy="6477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F5D1-E93E-42B6-AB64-2922532E5CE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2819520" y="1447920"/>
            <a:ext cx="365760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7444" y="-26827"/>
                </a:moveTo>
                <a:arcTo wR="32000" hR="32000" stAng="-3418008" swAng="6836015"/>
                <a:moveTo>
                  <a:pt x="17444" y="26827"/>
                </a:moveTo>
                <a:arcTo wR="32000" hR="32000" stAng="3418008" swAng="59"/>
                <a:lnTo>
                  <a:pt x="17444" y="26828"/>
                </a:lnTo>
                <a:lnTo>
                  <a:pt x="17444" y="-26828"/>
                </a:lnTo>
                <a:lnTo>
                  <a:pt x="17444" y="-26828"/>
                </a:lnTo>
                <a:arcTo wR="32000" hR="32000" stAng="-3418066" swAng="59"/>
                <a:close/>
              </a:path>
            </a:pathLst>
          </a:custGeom>
          <a:solidFill>
            <a:srgbClr val="ffcc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-3352680" y="0"/>
            <a:ext cx="4038480" cy="403848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21057" y="-24096"/>
                </a:moveTo>
                <a:arcTo wR="32000" hR="32000" stAng="-2931006" swAng="5862012"/>
                <a:moveTo>
                  <a:pt x="21057" y="24096"/>
                </a:moveTo>
                <a:arcTo wR="32000" hR="32000" stAng="2931006" swAng="71"/>
                <a:lnTo>
                  <a:pt x="21057" y="24097"/>
                </a:lnTo>
                <a:lnTo>
                  <a:pt x="21057" y="-24097"/>
                </a:lnTo>
                <a:lnTo>
                  <a:pt x="21057" y="-24096"/>
                </a:lnTo>
                <a:arcTo wR="32000" hR="32000" stAng="-2931077" swAng="71"/>
                <a:close/>
              </a:path>
            </a:pathLst>
          </a:custGeom>
          <a:solidFill>
            <a:srgbClr val="ff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76320" y="152280"/>
            <a:ext cx="8991360" cy="6629400"/>
            <a:chOff x="76320" y="152280"/>
            <a:chExt cx="8991360" cy="6629400"/>
          </a:xfrm>
        </p:grpSpPr>
        <p:sp>
          <p:nvSpPr>
            <p:cNvPr id="12" name=""/>
            <p:cNvSpPr/>
            <p:nvPr/>
          </p:nvSpPr>
          <p:spPr>
            <a:xfrm>
              <a:off x="76320" y="152280"/>
              <a:ext cx="8991360" cy="6629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280" y="228600"/>
              <a:ext cx="8839440" cy="6477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-2819520" y="1447920"/>
            <a:ext cx="365760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7444" y="-26827"/>
                </a:moveTo>
                <a:arcTo wR="32000" hR="32000" stAng="-3418008" swAng="6836015"/>
                <a:moveTo>
                  <a:pt x="17444" y="26827"/>
                </a:moveTo>
                <a:arcTo wR="32000" hR="32000" stAng="3418008" swAng="59"/>
                <a:lnTo>
                  <a:pt x="17444" y="26828"/>
                </a:lnTo>
                <a:lnTo>
                  <a:pt x="17444" y="-26828"/>
                </a:lnTo>
                <a:lnTo>
                  <a:pt x="17444" y="-26828"/>
                </a:lnTo>
                <a:arcTo wR="32000" hR="32000" stAng="-3418066" swAng="59"/>
                <a:close/>
              </a:path>
            </a:pathLst>
          </a:custGeom>
          <a:solidFill>
            <a:srgbClr val="ffcc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-3352680" y="0"/>
            <a:ext cx="4038480" cy="403848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21057" y="-24096"/>
                </a:moveTo>
                <a:arcTo wR="32000" hR="32000" stAng="-2931006" swAng="5862012"/>
                <a:moveTo>
                  <a:pt x="21057" y="24096"/>
                </a:moveTo>
                <a:arcTo wR="32000" hR="32000" stAng="2931006" swAng="71"/>
                <a:lnTo>
                  <a:pt x="21057" y="24097"/>
                </a:lnTo>
                <a:lnTo>
                  <a:pt x="21057" y="-24097"/>
                </a:lnTo>
                <a:lnTo>
                  <a:pt x="21057" y="-24096"/>
                </a:lnTo>
                <a:arcTo wR="32000" hR="32000" stAng="-2931077" swAng="71"/>
                <a:close/>
              </a:path>
            </a:pathLst>
          </a:custGeom>
          <a:solidFill>
            <a:srgbClr val="ff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380880"/>
            <a:ext cx="8534160" cy="5943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457200"/>
            <a:ext cx="8382240" cy="5791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2514600"/>
            <a:ext cx="69339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2666880" y="1981080"/>
            <a:ext cx="365760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4556" y="-28498"/>
                </a:moveTo>
                <a:arcTo wR="32000" hR="32000" stAng="-3776586" swAng="7553173"/>
                <a:moveTo>
                  <a:pt x="14556" y="28498"/>
                </a:moveTo>
                <a:arcTo wR="32000" hR="32000" stAng="3776586" swAng="49"/>
                <a:lnTo>
                  <a:pt x="14556" y="28499"/>
                </a:lnTo>
                <a:lnTo>
                  <a:pt x="14556" y="-28499"/>
                </a:lnTo>
                <a:lnTo>
                  <a:pt x="14556" y="-28498"/>
                </a:lnTo>
                <a:arcTo wR="32000" hR="32000" stAng="-3776635" swAng="49"/>
                <a:close/>
              </a:path>
            </a:pathLst>
          </a:custGeom>
          <a:solidFill>
            <a:srgbClr val="ffcc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52680" y="533520"/>
            <a:ext cx="4038480" cy="403848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21057" y="-24096"/>
                </a:moveTo>
                <a:arcTo wR="32000" hR="32000" stAng="-2931006" swAng="5862012"/>
                <a:moveTo>
                  <a:pt x="21057" y="24096"/>
                </a:moveTo>
                <a:arcTo wR="32000" hR="32000" stAng="2931006" swAng="71"/>
                <a:lnTo>
                  <a:pt x="21057" y="24097"/>
                </a:lnTo>
                <a:lnTo>
                  <a:pt x="21057" y="-24097"/>
                </a:lnTo>
                <a:lnTo>
                  <a:pt x="21057" y="-24096"/>
                </a:lnTo>
                <a:arcTo wR="32000" hR="32000" stAng="-2931077" swAng="71"/>
                <a:close/>
              </a:path>
            </a:pathLst>
          </a:custGeom>
          <a:solidFill>
            <a:srgbClr val="ff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01532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B596-D2FC-48EA-9E09-28BDD59E02A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380880"/>
            <a:ext cx="8534160" cy="5943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457200"/>
            <a:ext cx="8382240" cy="5791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2514600"/>
            <a:ext cx="69339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2666880" y="1981080"/>
            <a:ext cx="365760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4556" y="-28498"/>
                </a:moveTo>
                <a:arcTo wR="32000" hR="32000" stAng="-3776586" swAng="7553173"/>
                <a:moveTo>
                  <a:pt x="14556" y="28498"/>
                </a:moveTo>
                <a:arcTo wR="32000" hR="32000" stAng="3776586" swAng="49"/>
                <a:lnTo>
                  <a:pt x="14556" y="28499"/>
                </a:lnTo>
                <a:lnTo>
                  <a:pt x="14556" y="-28499"/>
                </a:lnTo>
                <a:lnTo>
                  <a:pt x="14556" y="-28498"/>
                </a:lnTo>
                <a:arcTo wR="32000" hR="32000" stAng="-3776635" swAng="49"/>
                <a:close/>
              </a:path>
            </a:pathLst>
          </a:custGeom>
          <a:solidFill>
            <a:srgbClr val="ffcc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3352680" y="533520"/>
            <a:ext cx="4038480" cy="403848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21057" y="-24096"/>
                </a:moveTo>
                <a:arcTo wR="32000" hR="32000" stAng="-2931006" swAng="5862012"/>
                <a:moveTo>
                  <a:pt x="21057" y="24096"/>
                </a:moveTo>
                <a:arcTo wR="32000" hR="32000" stAng="2931006" swAng="71"/>
                <a:lnTo>
                  <a:pt x="21057" y="24097"/>
                </a:lnTo>
                <a:lnTo>
                  <a:pt x="21057" y="-24097"/>
                </a:lnTo>
                <a:lnTo>
                  <a:pt x="21057" y="-24096"/>
                </a:lnTo>
                <a:arcTo wR="32000" hR="32000" stAng="-2931077" swAng="71"/>
                <a:close/>
              </a:path>
            </a:pathLst>
          </a:custGeom>
          <a:solidFill>
            <a:srgbClr val="ff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77777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777777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77777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777777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77777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777777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77777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777777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77777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777777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77777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01532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Georgia"/>
              </a:rPr>
              <a:t>OPEN HOUSE</a:t>
            </a:r>
            <a:endParaRPr b="0" lang="en-US" sz="40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442520" y="2895120"/>
            <a:ext cx="72392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School Name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Date 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eorgia"/>
              </a:rPr>
              <a:t>Handouts</a:t>
            </a: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Verdana"/>
              </a:rPr>
              <a:t>Translate handouts for parents for whom English is a second language.</a:t>
            </a:r>
            <a:endParaRPr b="0" lang="en-US" sz="28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Verdana"/>
              </a:rPr>
              <a:t>Handouts might include:</a:t>
            </a:r>
            <a:endParaRPr b="0" lang="en-US" sz="28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A list of school phone numbers, e-mail addresses, and Web site addresses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Copies of classroom and school policies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A list of materials that children will need for class. 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eorgia"/>
              </a:rPr>
              <a:t>Welcome Parents!</a:t>
            </a: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Verdana"/>
              </a:rPr>
              <a:t>Welcome parents to your classroom.</a:t>
            </a:r>
            <a:endParaRPr b="0" lang="en-US" sz="28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Verdana"/>
              </a:rPr>
              <a:t>List the goals for the open house:</a:t>
            </a:r>
            <a:endParaRPr b="0" lang="en-US" sz="28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To help parents understand the work their child will be doing throughout the school year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To explain your expectations of their child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To share information about how parents can support their child’s learning.</a:t>
            </a:r>
            <a:r>
              <a:rPr b="0" lang="en-US" sz="2800" spc="-1" strike="noStrike">
                <a:solidFill>
                  <a:srgbClr val="777777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eorgia"/>
              </a:rPr>
              <a:t>Curriculum Goals</a:t>
            </a: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Describe what the students will study during the school year, including the overall curriculum plans and goals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Include a detailed, colorful syllabus for parents to take home. 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Suggest ways that parents can help their child learn, such as reading together for 20 minutes a day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Use more than one slide to cover this information. 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eorgia"/>
              </a:rPr>
              <a:t>In-Class Activity</a:t>
            </a: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240" y="1827360"/>
            <a:ext cx="7311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Invite parents to take part in an activity, and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then discuss it. Some ideas include: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Solving a math problem, such as estimating the number of beans in a jar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Writing an encouraging letter to their child. 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Going on a classroom scavenger hunt for their child's work, the books their child likes best, and messages from their child. 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eorgia"/>
              </a:rPr>
              <a:t>Class Information</a:t>
            </a: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Explain how students will be evaluated and graded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Tell parents when report cards and progress reports will be sent home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Describe the amount of homework students can expect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Provide a calendar of upcoming events, such as class field trips and parent-teacher conferences. 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eorgia"/>
              </a:rPr>
              <a:t>Class Rules</a:t>
            </a: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182320" y="1964880"/>
            <a:ext cx="6502680" cy="37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24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77777"/>
                </a:solidFill>
                <a:latin typeface="Verdana"/>
              </a:rPr>
              <a:t>Explain the behavior you expect in your classroom. </a:t>
            </a:r>
            <a:endParaRPr b="0" lang="en-US" sz="2500" spc="-1" strike="noStrike">
              <a:solidFill>
                <a:srgbClr val="777777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24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77777"/>
                </a:solidFill>
                <a:latin typeface="Verdana"/>
              </a:rPr>
              <a:t>Your class rules might include:</a:t>
            </a:r>
            <a:endParaRPr b="0" lang="en-US" sz="2500" spc="-1" strike="noStrike">
              <a:solidFill>
                <a:srgbClr val="777777"/>
              </a:solidFill>
              <a:latin typeface="Verdana"/>
            </a:endParaRPr>
          </a:p>
          <a:p>
            <a:pPr lvl="1" marL="798480" indent="-34272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777777"/>
                </a:solidFill>
                <a:latin typeface="Verdana"/>
              </a:rPr>
              <a:t>Be respectful.</a:t>
            </a:r>
            <a:endParaRPr b="0" lang="en-US" sz="2100" spc="-1" strike="noStrike">
              <a:solidFill>
                <a:srgbClr val="777777"/>
              </a:solidFill>
              <a:latin typeface="Verdana"/>
            </a:endParaRPr>
          </a:p>
          <a:p>
            <a:pPr lvl="1" marL="798480" indent="-34272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777777"/>
                </a:solidFill>
                <a:latin typeface="Verdana"/>
              </a:rPr>
              <a:t>Be responsible.</a:t>
            </a:r>
            <a:endParaRPr b="0" lang="en-US" sz="2100" spc="-1" strike="noStrike">
              <a:solidFill>
                <a:srgbClr val="777777"/>
              </a:solidFill>
              <a:latin typeface="Verdana"/>
            </a:endParaRPr>
          </a:p>
          <a:p>
            <a:pPr lvl="1" marL="798480" indent="-34272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777777"/>
                </a:solidFill>
                <a:latin typeface="Verdana"/>
              </a:rPr>
              <a:t>Follow directions.</a:t>
            </a:r>
            <a:endParaRPr b="0" lang="en-US" sz="2100" spc="-1" strike="noStrike">
              <a:solidFill>
                <a:srgbClr val="777777"/>
              </a:solidFill>
              <a:latin typeface="Verdana"/>
            </a:endParaRPr>
          </a:p>
          <a:p>
            <a:pPr lvl="1" marL="798480" indent="-34272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777777"/>
                </a:solidFill>
                <a:latin typeface="Verdana"/>
              </a:rPr>
              <a:t>Be punctual.</a:t>
            </a:r>
            <a:endParaRPr b="0" lang="en-US" sz="2100" spc="-1" strike="noStrike">
              <a:solidFill>
                <a:srgbClr val="777777"/>
              </a:solidFill>
              <a:latin typeface="Verdana"/>
            </a:endParaRPr>
          </a:p>
          <a:p>
            <a:pPr lvl="1" marL="798480" indent="-34272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777777"/>
                </a:solidFill>
                <a:latin typeface="Verdana"/>
              </a:rPr>
              <a:t>Be organized.</a:t>
            </a:r>
            <a:endParaRPr b="0" lang="en-US" sz="2100" spc="-1" strike="noStrike">
              <a:solidFill>
                <a:srgbClr val="777777"/>
              </a:solidFill>
              <a:latin typeface="Verdana"/>
            </a:endParaRPr>
          </a:p>
          <a:p>
            <a:pPr lvl="1" marL="798480" indent="-34272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777777"/>
                </a:solidFill>
                <a:latin typeface="Verdana"/>
              </a:rPr>
              <a:t>Be a self-starter.</a:t>
            </a:r>
            <a:endParaRPr b="0" lang="en-US" sz="2100" spc="-1" strike="noStrike">
              <a:solidFill>
                <a:srgbClr val="777777"/>
              </a:solidFill>
              <a:latin typeface="Verdana"/>
            </a:endParaRPr>
          </a:p>
          <a:p>
            <a:pPr lvl="1" marL="798480" indent="-34272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777777"/>
                </a:solidFill>
                <a:latin typeface="Verdana"/>
              </a:rPr>
              <a:t>Be prepared.</a:t>
            </a:r>
            <a:endParaRPr b="0" lang="en-US" sz="21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eorgia"/>
              </a:rPr>
              <a:t>School Policies</a:t>
            </a: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Explain how the school addresses academic and behavioral problems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Outline the school's policies regarding tardiness, absence, and discipline. 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Provide policy information about: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Verdana"/>
              </a:rPr>
              <a:t>School cancellations for bad weather and other reasons. 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Verdana"/>
              </a:rPr>
              <a:t>Emergency procedures.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Verdana"/>
              </a:rPr>
              <a:t>Transportation. 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Verdana"/>
              </a:rPr>
              <a:t>After-school activities.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Verdana"/>
              </a:rPr>
              <a:t>Volunteering. 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eorgia"/>
              </a:rPr>
              <a:t>Get Involved!</a:t>
            </a: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List opportunities for parents to become involved in volunteer programs, advisory councils, and the PTA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Provide sign-up sheets for parents who are interested in helping to plan parties or special projects for your class. 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eorgia"/>
              </a:rPr>
              <a:t>Questions?</a:t>
            </a: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Verdana"/>
              </a:rPr>
              <a:t>Take questions from parents.</a:t>
            </a:r>
            <a:endParaRPr b="0" lang="en-US" sz="28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Verdana"/>
              </a:rPr>
              <a:t>Ask parents to fill out a questionnaire about their child.</a:t>
            </a: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Have them describe areas in which they would like to see their child improve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Have them describe their child's personality, interests, and talents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1T14:23:45Z</dcterms:created>
  <dc:creator>Bonnie Ritchey</dc:creator>
  <dc:description/>
  <dc:language>en-US</dc:language>
  <cp:lastModifiedBy>Bonnie Ritchey</cp:lastModifiedBy>
  <dcterms:modified xsi:type="dcterms:W3CDTF">2005-01-01T14:24:01Z</dcterms:modified>
  <cp:revision>1</cp:revision>
  <dc:subject/>
  <dc:title>OPEN HOUS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0701033</vt:lpwstr>
  </property>
</Properties>
</file>